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783C-0AC6-4751-9C2D-71D9E0D8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CF4B-22DC-4E1D-9663-1B7C2B5C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57EE-28EE-4213-99A2-D9B1DF84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CB5-8227-4EBD-9FBB-51D641E8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ACE4-D0DE-4F0E-BF7A-5F466799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D665-E2F9-452A-B5AB-7C082B4D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EB24-9831-4015-961F-B4D0AA61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2F38-E603-4988-A89F-80597FD1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2E11-4DC4-457F-AD83-A57D61CE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57C-F4E4-453D-8126-2A14AB19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CC22-00A8-4590-A894-568B6C57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6474-2F90-4BED-9B5D-B3A2E666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D392-A129-4F1E-B036-3DD71D113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6680" y="1219320"/>
            <a:ext cx="4343400" cy="2666880"/>
          </a:xfrm>
          <a:prstGeom prst="wedgeRoundRectCallout">
            <a:avLst>
              <a:gd name="adj1" fmla="val 74523"/>
              <a:gd name="adj2" fmla="val 67856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8288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 Bur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4038480"/>
            <a:ext cx="6477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don me for being so rud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not me, it was my foo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got so lonely down below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just popped up to say hell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3000" y="19051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 Bur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333440" y="2408400"/>
            <a:ext cx="6477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don me for being so rud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not me, it was my foo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got so lonely down below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just popped up to say hell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6840" y="4419720"/>
            <a:ext cx="823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don          me                for being so rude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31240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4600" y="28954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162920" y="2895480"/>
            <a:ext cx="14857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6840" y="4419720"/>
            <a:ext cx="789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was not      me      it was my           food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0" y="3124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086600" y="30481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6480" y="4419720"/>
            <a:ext cx="79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got so         lonely        down         be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2971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819520" y="285768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991040" y="285768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781680" y="2895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4120" y="4419720"/>
            <a:ext cx="81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just     popped        up     to say        hell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1485720" cy="1486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828960" y="308628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410080" y="32004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086600" y="297180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1T16:23:38Z</dcterms:created>
  <dc:creator>Carol Shockley</dc:creator>
  <dc:description/>
  <dc:language>en-US</dc:language>
  <cp:lastModifiedBy>Carol Shockley</cp:lastModifiedBy>
  <dcterms:modified xsi:type="dcterms:W3CDTF">2005-02-11T17:51:35Z</dcterms:modified>
  <cp:revision>3</cp:revision>
  <dc:subject/>
  <dc:title>PowerPoint Presentation</dc:title>
</cp:coreProperties>
</file>